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0.png" ContentType="image/png"/>
  <Override PartName="/ppt/media/image2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B61-AD19-4437-B03F-5494E604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0707-D184-4672-8E6B-AEFA89B2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6A5-9792-452D-9536-40ED0018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D11-3381-4688-843A-DF07D393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597-7F3B-4088-9C7A-646FCDAF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A8B-6EE2-4E3D-B88C-7408E32B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6683-99F5-45E9-9DB2-FAD1D98C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8A6-424C-449E-B749-2ED316D0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8E0C-E9C6-408C-B265-DA662F8C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46E-305E-43C7-85C6-6DED3CFD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473-3D2A-4D4D-90D3-A1C858AB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85BA-E5F1-43AD-85F0-5D8F2D46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DE83C-8CAA-48A8-A17D-1B75B940A5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KqXu-5jw60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Arms 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3320" y="1919160"/>
            <a:ext cx="8721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uclear weapons became the biggest source of tension in the Cold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U.S. used used two nuclear bombs on Japanese cities to end World War II in 19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USSR tested their first nuke in 194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the 1950’s, both sides had enough weapons to literally wipe out the othe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D = Mutually Assured 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16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1522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- How powerful were these blas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114800" cy="2975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743200" y="3962520"/>
            <a:ext cx="400068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520" y="3067200"/>
            <a:ext cx="4495680" cy="3552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04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 – How did Japan respo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724280" y="990720"/>
            <a:ext cx="4114800" cy="32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ban Missile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30240"/>
            <a:ext cx="8686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Cold War hit its most tense moment during the Cuban Missi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isis in October of 19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viets placed missiles in Cuba (90 miles from Flori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fter 13 tense days of negotiation with U.S. President John F. Kennedy, Soviet President Kruschev agreed to remove th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ssiles from C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it like to live under the threat of a nuclear atta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ck and Cover: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youtube.com/watch?v=IKqXu-5jw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229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clear Arms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3240" y="205740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.S. and the USSR signed the START treaty in 199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led to both countries reducing the size of their nuclear arse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3792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89360" y="1828800"/>
            <a:ext cx="53546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7240" y="1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clear weapons tod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9995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8001000" cy="5715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8680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286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 – What is an “atomic bomb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3880" y="1230480"/>
            <a:ext cx="5562720" cy="3722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53341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lit into tw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tremendous amount of energy is released (the explo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5335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 – Then, what is a “hydrogen bomb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3520" y="1523880"/>
            <a:ext cx="415620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52880" y="183024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ydrogen bomb u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the combining of two unstable elements, releasing a tremendous amount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 – What does the resulting explosion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99896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04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 – How many times have nuclear weapons been us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4495680" cy="3224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4419720"/>
            <a:ext cx="83818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WI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6, 1945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rosh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9, 1945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gasa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 - How was the first atomic bomb buil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3417840" cy="4325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7913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. Robert Oppenhei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41911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llCent BdList BT"/>
              </a:rPr>
              <a:t>Manhattan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29200" y="1401840"/>
            <a:ext cx="3505320" cy="25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228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 – What does an atomic bomb look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1065240"/>
            <a:ext cx="6705720" cy="4344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0720" y="5683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t Man” and “Little Bo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3049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- How were the atomic bombs drop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1353960"/>
            <a:ext cx="6934320" cy="3446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1047600"/>
            <a:ext cx="7543800" cy="535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228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- How much damage did these bomb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809880" cy="3012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320" y="3576600"/>
            <a:ext cx="4876560" cy="3205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76920" y="6262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gasa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1066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osh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14:23:21Z</dcterms:created>
  <dc:creator>peronto's</dc:creator>
  <dc:description/>
  <dc:language>en-US</dc:language>
  <cp:lastModifiedBy>Emily Dolci</cp:lastModifiedBy>
  <dcterms:modified xsi:type="dcterms:W3CDTF">2008-05-13T13:08:09Z</dcterms:modified>
  <cp:revision>5</cp:revision>
  <dc:subject/>
  <dc:title>PowerPoint Presentation</dc:title>
</cp:coreProperties>
</file>